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A241-F3E8-46B8-9C50-AE9704E0EA78}" type="datetime">
              <a:rPr b="0" lang="pt-BR" sz="1200" spc="-1" strike="noStrike">
                <a:solidFill>
                  <a:srgbClr val="000000"/>
                </a:solidFill>
                <a:latin typeface="Gill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939B-5399-4343-A112-0C019383647C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891-FB56-4200-A702-8F84EDEF8A44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CEF-F13E-451C-9713-EFD280EBC06D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6BA-DFA6-4867-A799-D072DA881E4A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C6E7-46AE-4C25-A9E7-E4C0BEB173ED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2FAB-3A05-497E-AA9A-F03AFCA207B1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3CEE-B4AD-4D81-8EB4-58C29DA5826F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0EFB-129D-442C-93A5-4AB00F67BAA9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DBDA-B99C-47C2-A15E-BCE55074DA76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EAE7-992B-4772-9092-FAD6131323CC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919E-AFC6-4045-960A-7DE0D5419FAA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864D-0A2D-40FB-BC0F-B67E1E3F3FAF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84D-04FC-478D-BD26-4D61DCCA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234-7D44-4F79-BF1E-B3B415E2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653-82D7-4981-9219-0476281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E68-0763-4FCE-83D0-D6589767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535-4D72-4BE5-8C9A-B8C86316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68C-0840-4585-8B30-BC4659FA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290-3D0C-45B5-9C30-5EC5F11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89E-9DB2-4B5E-8010-EE96FC2D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A9A-26BA-46A4-A622-01B0521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67C-6D6A-49F5-9538-C8436BF3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C34-100D-4C08-A20F-FDCB0740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F06-CB70-4A1A-8C0C-969B5C60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-431640" y="9144000"/>
            <a:ext cx="13071240" cy="0"/>
          </a:xfrm>
          <a:prstGeom prst="line">
            <a:avLst/>
          </a:prstGeom>
          <a:ln w="381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759320" y="9146520"/>
            <a:ext cx="9553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"/>
                <a:ea typeface="Gill Sans"/>
              </a:rPr>
              <a:t>Conselho Nacional de Justiça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nexo I - Supremo Tribunal Federal, Praça dos Três Poderes, S/N - Brasília - Distrito Federal - Brasil - CEP: 70175-900 - 55.61.3217.486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5" descr="cnj-faixa.jpg"/>
          <p:cNvPicPr/>
          <p:nvPr/>
        </p:nvPicPr>
        <p:blipFill>
          <a:blip r:embed="rId2"/>
          <a:stretch/>
        </p:blipFill>
        <p:spPr>
          <a:xfrm>
            <a:off x="0" y="0"/>
            <a:ext cx="13004640" cy="105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2"/>
          <p:cNvSpPr/>
          <p:nvPr/>
        </p:nvSpPr>
        <p:spPr>
          <a:xfrm>
            <a:off x="-431640" y="9144000"/>
            <a:ext cx="13071240" cy="0"/>
          </a:xfrm>
          <a:prstGeom prst="line">
            <a:avLst/>
          </a:prstGeom>
          <a:ln w="381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759320" y="9146520"/>
            <a:ext cx="9553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"/>
                <a:ea typeface="Gill Sans"/>
              </a:rPr>
              <a:t>Conselho Nacional de Justiça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nexo I - Supremo Tribunal Federal, Praça dos Três Poderes, S/N - Brasília - Distrito Federal - Brasil - CEP: 70175-900 - 55.61.3217.486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Picture 5" descr="cnj-faixa.jpg"/>
          <p:cNvPicPr/>
          <p:nvPr/>
        </p:nvPicPr>
        <p:blipFill>
          <a:blip r:embed="rId2"/>
          <a:stretch/>
        </p:blipFill>
        <p:spPr>
          <a:xfrm>
            <a:off x="0" y="0"/>
            <a:ext cx="13004640" cy="1058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dt" idx="1"/>
          </p:nvPr>
        </p:nvSpPr>
        <p:spPr>
          <a:xfrm>
            <a:off x="650520" y="8929440"/>
            <a:ext cx="3033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2"/>
          </p:nvPr>
        </p:nvSpPr>
        <p:spPr>
          <a:xfrm>
            <a:off x="4443120" y="892944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3"/>
          </p:nvPr>
        </p:nvSpPr>
        <p:spPr>
          <a:xfrm>
            <a:off x="9319680" y="8929440"/>
            <a:ext cx="3033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4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6FAD-B8E3-4B9E-9BB1-A3559A6E983F}" type="slidenum">
              <a:rPr b="0" lang="pt-BR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2015640" y="3817800"/>
            <a:ext cx="87073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Optima"/>
                <a:ea typeface="Optima"/>
              </a:rPr>
              <a:t>Teoria do Conflito: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Optima"/>
                <a:ea typeface="Optima"/>
              </a:rPr>
              <a:t>Orientações Preliminares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6" name="Rectangle 2" descr=""/>
          <p:cNvPicPr/>
          <p:nvPr/>
        </p:nvPicPr>
        <p:blipFill>
          <a:blip r:embed="rId1"/>
          <a:stretch/>
        </p:blipFill>
        <p:spPr>
          <a:xfrm>
            <a:off x="2414520" y="6662880"/>
            <a:ext cx="8435880" cy="67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82760" y="2285640"/>
            <a:ext cx="12083760" cy="6041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7000"/>
          </a:bodyPr>
          <a:p>
            <a:pPr marL="328680"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rocessos Construtivos e Destrutivos de R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28680"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286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ara Deutsch, são características de processos construtivos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286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i) Capacidade de estimular as partes a desenvolverem soluções criativas que permitam a compatibilização de interesses aparentemente contrapostos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28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82760" y="2285640"/>
            <a:ext cx="12083760" cy="6041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370440"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rocessos Construtivos e Destrutivos de R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70440"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704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ara Deutsch, são características de processos construtivos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704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ii) pela capacidade das partes ou do condutor do processo de motivar todos os envolvidos para que prospectivamente resolvam as questões sem atribuição de culpa;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14080" y="2285640"/>
            <a:ext cx="12084120" cy="6041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1000"/>
          </a:bodyPr>
          <a:p>
            <a:pPr marL="343800"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rocessos Construtivos e Destrutivos de R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43800"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438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ara Deutsch, são características de processos construtivos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438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iii) pela disposição das partes ou do condutor do processo de abordar além de questões juridicamente tuteladas, todas e quaisquer questões que estejam influenciando a relação das par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14080" y="2285640"/>
            <a:ext cx="12084120" cy="6041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2000"/>
          </a:bodyPr>
          <a:p>
            <a:pPr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Processos Construtivos e Destrutivos de R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São características de </a:t>
            </a:r>
            <a:r>
              <a:rPr b="1" lang="en-US" sz="4000" spc="-1" strike="noStrike" u="sng">
                <a:solidFill>
                  <a:srgbClr val="333300"/>
                </a:solidFill>
                <a:uFillTx/>
                <a:latin typeface="Gill Sans"/>
              </a:rPr>
              <a:t>processos destrutivos</a:t>
            </a: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i) Polarização da relação soci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ii) Ausência de técnica de resolução de disputas (em regra substituída por procedimentos ou intuitividade/improviso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iii) Ausência de objetividade na condução dos procedimentos de Resolução de Disputa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"/>
          <p:cNvSpPr/>
          <p:nvPr/>
        </p:nvSpPr>
        <p:spPr>
          <a:xfrm>
            <a:off x="239040" y="1301040"/>
            <a:ext cx="287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Bibliograf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Line 2"/>
          <p:cNvSpPr/>
          <p:nvPr/>
        </p:nvSpPr>
        <p:spPr>
          <a:xfrm flipV="1">
            <a:off x="0" y="2026800"/>
            <a:ext cx="9223200" cy="468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119880" y="3741480"/>
            <a:ext cx="13346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SzPct val="1594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ustch, Morton,  A resolução do conflito: processos construtivos 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strutivos in Azevedo,  André Gomma (org.), Estudos em Arbitrage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diação e Negociação Vol. 3, Ed. Grupos de Pesquisa, 2005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-3240" y="5646240"/>
            <a:ext cx="13095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buSzPct val="1593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zevedo,  André Gomma (org.). 2009. Manual de Mediação Judic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Brasília/DF: Ministério da Justiça e Programa das Nações Unid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a o Desenvolvimento – PNUD)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8026560" y="869796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"/>
              </a:rPr>
              <a:t>Créditos: Juiz André Gomma de Azeved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267120" y="1301040"/>
            <a:ext cx="6817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Programa da apresentaçã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2"/>
          <p:cNvSpPr/>
          <p:nvPr/>
        </p:nvSpPr>
        <p:spPr>
          <a:xfrm flipV="1">
            <a:off x="-720" y="1940040"/>
            <a:ext cx="7340760" cy="4608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9" name="Group 16"/>
          <p:cNvGrpSpPr/>
          <p:nvPr/>
        </p:nvGrpSpPr>
        <p:grpSpPr>
          <a:xfrm>
            <a:off x="1471680" y="3354840"/>
            <a:ext cx="8562240" cy="3902760"/>
            <a:chOff x="1471680" y="3354840"/>
            <a:chExt cx="8562240" cy="3902760"/>
          </a:xfrm>
        </p:grpSpPr>
        <p:sp>
          <p:nvSpPr>
            <p:cNvPr id="580" name="Rectangle 3"/>
            <p:cNvSpPr/>
            <p:nvPr/>
          </p:nvSpPr>
          <p:spPr>
            <a:xfrm>
              <a:off x="1504080" y="3354840"/>
              <a:ext cx="85298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o o conflito é percebido intuitivamente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1478880" y="4020840"/>
              <a:ext cx="4156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ções ao conflito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2" name="Rectangle 6"/>
            <p:cNvSpPr/>
            <p:nvPr/>
          </p:nvSpPr>
          <p:spPr>
            <a:xfrm>
              <a:off x="1494720" y="4707000"/>
              <a:ext cx="833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imentos de Resolução de Conflitos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3" name="Rectangle 8"/>
            <p:cNvSpPr/>
            <p:nvPr/>
          </p:nvSpPr>
          <p:spPr>
            <a:xfrm>
              <a:off x="1497960" y="5412600"/>
              <a:ext cx="7452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os construtivos e destrutivos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Rectangle 9"/>
            <p:cNvSpPr/>
            <p:nvPr/>
          </p:nvSpPr>
          <p:spPr>
            <a:xfrm>
              <a:off x="1471680" y="6784920"/>
              <a:ext cx="2606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bliografia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Rectangle 9"/>
          <p:cNvSpPr/>
          <p:nvPr/>
        </p:nvSpPr>
        <p:spPr>
          <a:xfrm>
            <a:off x="1465560" y="6098400"/>
            <a:ext cx="2452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buSzPct val="15931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onclusão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454560" y="1218960"/>
            <a:ext cx="5736960" cy="1577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"/>
              </a:rPr>
              <a:t>Percepção </a:t>
            </a:r>
            <a:r>
              <a:rPr b="1" lang="pt-BR" sz="3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397160" y="2590920"/>
          <a:ext cx="9832680" cy="5688000"/>
        </p:xfrm>
        <a:graphic>
          <a:graphicData uri="http://schemas.openxmlformats.org/drawingml/2006/table">
            <a:tbl>
              <a:tblPr/>
              <a:tblGrid>
                <a:gridCol w="4917960"/>
                <a:gridCol w="4914720"/>
              </a:tblGrid>
              <a:tr h="9745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Guer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Brig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Agressã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Insul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Violênc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Tristez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3606480" y="1676160"/>
            <a:ext cx="5737320" cy="10666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"/>
              </a:rPr>
              <a:t>Reação </a:t>
            </a:r>
            <a:r>
              <a:rPr b="1" lang="pt-BR" sz="3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49440" y="2971800"/>
          <a:ext cx="9833040" cy="5033880"/>
        </p:xfrm>
        <a:graphic>
          <a:graphicData uri="http://schemas.openxmlformats.org/drawingml/2006/table">
            <a:tbl>
              <a:tblPr/>
              <a:tblGrid>
                <a:gridCol w="4917960"/>
                <a:gridCol w="4915080"/>
              </a:tblGrid>
              <a:tr h="920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Transpiração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Fisiológi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Dispersão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Fisiológi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Raiva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emo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Hostilidade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emo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Verbalmente descuidado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comportamen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606480" y="1905120"/>
            <a:ext cx="5737320" cy="1216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"/>
              </a:rPr>
              <a:t>Procedimento de RD </a:t>
            </a:r>
            <a:r>
              <a:rPr b="1" lang="pt-BR" sz="3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473120" y="3276720"/>
          <a:ext cx="9833040" cy="5089320"/>
        </p:xfrm>
        <a:graphic>
          <a:graphicData uri="http://schemas.openxmlformats.org/drawingml/2006/table">
            <a:tbl>
              <a:tblPr/>
              <a:tblGrid>
                <a:gridCol w="4918320"/>
                <a:gridCol w="4914720"/>
              </a:tblGrid>
              <a:tr h="74016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Atribuir culp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Julg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Reprimir comportam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Analisa fa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7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Polariz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530160" y="1828440"/>
            <a:ext cx="5737320" cy="1063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"/>
              </a:rPr>
              <a:t>Percepção </a:t>
            </a:r>
            <a:r>
              <a:rPr b="1" lang="pt-BR" sz="3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473120" y="2971800"/>
          <a:ext cx="9833040" cy="5688000"/>
        </p:xfrm>
        <a:graphic>
          <a:graphicData uri="http://schemas.openxmlformats.org/drawingml/2006/table">
            <a:tbl>
              <a:tblPr/>
              <a:tblGrid>
                <a:gridCol w="4918320"/>
                <a:gridCol w="4914720"/>
              </a:tblGrid>
              <a:tr h="974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Guer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Brig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imen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Agressã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essid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Insul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caçã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Violênc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hecimen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Tristez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izaçã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454560" y="1752120"/>
            <a:ext cx="5736960" cy="987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"/>
              </a:rPr>
              <a:t>Reação </a:t>
            </a:r>
            <a:r>
              <a:rPr b="1" lang="pt-BR" sz="3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473120" y="3124080"/>
          <a:ext cx="9833040" cy="5035680"/>
        </p:xfrm>
        <a:graphic>
          <a:graphicData uri="http://schemas.openxmlformats.org/drawingml/2006/table">
            <a:tbl>
              <a:tblPr/>
              <a:tblGrid>
                <a:gridCol w="4918320"/>
                <a:gridCol w="4914720"/>
              </a:tblGrid>
              <a:tr h="920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Transpiração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Fisiológi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çã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Dispersão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Fisiológi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en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Raiva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emo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cionalizaçã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Hostilidade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emo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tivid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Verbalmente descuidado </a:t>
                      </a:r>
                      <a:r>
                        <a:rPr b="0" lang="pt-BR" sz="14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(comportamen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balmente conscie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530160" y="1752480"/>
            <a:ext cx="5737320" cy="157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"/>
              </a:rPr>
              <a:t>Procedimento de RD </a:t>
            </a:r>
            <a:r>
              <a:rPr b="1" lang="pt-BR" sz="3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73120" y="3048120"/>
          <a:ext cx="9833040" cy="5089320"/>
        </p:xfrm>
        <a:graphic>
          <a:graphicData uri="http://schemas.openxmlformats.org/drawingml/2006/table">
            <a:tbl>
              <a:tblPr/>
              <a:tblGrid>
                <a:gridCol w="4918320"/>
                <a:gridCol w="4914720"/>
              </a:tblGrid>
              <a:tr h="74016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Atribuir culp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car soluçõ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Julga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foque prospecti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Reprimir comportam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reen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Analisa fa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isa intençõ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720"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cccc00"/>
                          </a:solidFill>
                          <a:latin typeface="Tahoma"/>
                        </a:rPr>
                        <a:t>Polariz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960" rIns="129960" tIns="65160" bIns="65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f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29960" marR="129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66360" y="3134880"/>
            <a:ext cx="11364840" cy="5837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 algn="just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Gill Sans"/>
              </a:rPr>
              <a:t>O conflito, se abordado de forma apropriada (com técnicas adequadas) pode ser um importante meio de conhecimento, amadurecimento e aproximação de seres humanos. Ao mesmo tempo, o conflito quando conduzido corretamente pode impulsionar relevantes alterações quanto à ética e à responsabilidade profission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7Z</dcterms:created>
  <dc:creator/>
  <dc:description/>
  <cp:keywords/>
  <dc:language>en-US</dc:language>
  <cp:lastModifiedBy>Andre Gomma de Azevedo</cp:lastModifiedBy>
  <dcterms:modified xsi:type="dcterms:W3CDTF">2009-11-12T17:34:45Z</dcterms:modified>
  <cp:revision>38</cp:revision>
  <dc:subject/>
  <dc:title>Slide 1</dc:title>
</cp:coreProperties>
</file>