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2E47-B555-4631-BF2C-E744730BEF83}" type="datetime">
              <a:rPr b="0" lang="pt-BR" sz="1200" spc="-1" strike="noStrike">
                <a:solidFill>
                  <a:srgbClr val="000000"/>
                </a:solidFill>
                <a:latin typeface="Gill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9182-8EF3-4C14-96DC-D9A71B58E62F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D153-2FEB-4A6C-AF2D-EEEE7A1E6533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E39F-C172-47D5-86D7-D72A195F8AB3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C29E-413A-4701-BDA4-3A6E3B8AC576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46D-B1B4-4FB6-9CDD-DA53C2AA12E6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pt-BR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CB74-9F53-4101-AF92-6E2EA3F5B0F3}" type="slidenum">
              <a:rPr b="0" lang="pt-BR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160" y="419076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903E-BE23-4248-9EC3-5413D63B8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5E5-F02D-4DB4-BB7D-3B34758B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FBF-F441-4A13-B0DF-78A4E9CC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8AE-8D1D-468A-8A4D-377CDB8A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CCC-8963-4F6B-9A72-53CCF93C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3A4-D996-4681-B814-A7B680B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1C1-66ED-4D90-A9AC-924C334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B12B-EFA0-49B4-AEBD-C20EE32C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F3E-3CC8-4EE8-BC89-0CF2395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006-1D7F-4287-A69C-7EF78FFE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A7B-E0B2-4C71-B135-2E83FF2D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0908-3AA2-4A2F-85BE-88567F39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-431640" y="9144000"/>
            <a:ext cx="13071240" cy="0"/>
          </a:xfrm>
          <a:prstGeom prst="line">
            <a:avLst/>
          </a:prstGeom>
          <a:ln w="381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759320" y="9146520"/>
            <a:ext cx="9553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"/>
                <a:ea typeface="Gill Sans"/>
              </a:rPr>
              <a:t>Conselho Nacional de Justiça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nexo I - Supremo Tribunal Federal, Praça dos Três Poderes, S/N - Brasília - Distrito Federal - Brasil - CEP: 70175-900 - 55.61.3217.486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" name="Picture 5" descr="cnj-faixa.jpg"/>
          <p:cNvPicPr/>
          <p:nvPr/>
        </p:nvPicPr>
        <p:blipFill>
          <a:blip r:embed="rId2"/>
          <a:stretch/>
        </p:blipFill>
        <p:spPr>
          <a:xfrm>
            <a:off x="0" y="0"/>
            <a:ext cx="13004640" cy="105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2"/>
          <p:cNvSpPr/>
          <p:nvPr/>
        </p:nvSpPr>
        <p:spPr>
          <a:xfrm>
            <a:off x="-431640" y="9144000"/>
            <a:ext cx="13071240" cy="0"/>
          </a:xfrm>
          <a:prstGeom prst="line">
            <a:avLst/>
          </a:prstGeom>
          <a:ln w="381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1759320" y="9146520"/>
            <a:ext cx="9553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"/>
                <a:ea typeface="Gill Sans"/>
              </a:rPr>
              <a:t>Conselho Nacional de Justiça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nexo I - Supremo Tribunal Federal, Praça dos Três Poderes, S/N - Brasília - Distrito Federal - Brasil - CEP: 70175-900 - 55.61.3217.4862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Picture 5" descr="cnj-faixa.jpg"/>
          <p:cNvPicPr/>
          <p:nvPr/>
        </p:nvPicPr>
        <p:blipFill>
          <a:blip r:embed="rId2"/>
          <a:stretch/>
        </p:blipFill>
        <p:spPr>
          <a:xfrm>
            <a:off x="0" y="0"/>
            <a:ext cx="13004640" cy="1058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dt" idx="1"/>
          </p:nvPr>
        </p:nvSpPr>
        <p:spPr>
          <a:xfrm>
            <a:off x="650520" y="8929440"/>
            <a:ext cx="3033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2"/>
          </p:nvPr>
        </p:nvSpPr>
        <p:spPr>
          <a:xfrm>
            <a:off x="4443120" y="8929440"/>
            <a:ext cx="411804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3"/>
          </p:nvPr>
        </p:nvSpPr>
        <p:spPr>
          <a:xfrm>
            <a:off x="9319680" y="8929440"/>
            <a:ext cx="3033720" cy="649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4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C32F-4C7B-4E53-8CFA-5D5098DF076E}" type="slidenum">
              <a:rPr b="0" lang="pt-BR" sz="4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-2638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572040" indent="-2199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879840" indent="-17568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1231920" indent="-17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1584000" indent="-17568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2039400" y="3817800"/>
            <a:ext cx="9467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Optima"/>
                <a:ea typeface="Optima"/>
              </a:rPr>
              <a:t>Qualidade em Conciliação: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Optima"/>
                <a:ea typeface="Optima"/>
              </a:rPr>
              <a:t>Orientações a conciliadores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6" name="Rectangle 2" descr=""/>
          <p:cNvPicPr/>
          <p:nvPr/>
        </p:nvPicPr>
        <p:blipFill>
          <a:blip r:embed="rId1"/>
          <a:stretch/>
        </p:blipFill>
        <p:spPr>
          <a:xfrm>
            <a:off x="2408400" y="6735600"/>
            <a:ext cx="8289720" cy="67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267120" y="1448640"/>
            <a:ext cx="68176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Programa da apresentaçã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Line 2"/>
          <p:cNvSpPr/>
          <p:nvPr/>
        </p:nvSpPr>
        <p:spPr>
          <a:xfrm flipV="1">
            <a:off x="-720" y="2087640"/>
            <a:ext cx="7340760" cy="4608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79" name="Group 16"/>
          <p:cNvGrpSpPr/>
          <p:nvPr/>
        </p:nvGrpSpPr>
        <p:grpSpPr>
          <a:xfrm>
            <a:off x="1471680" y="3354840"/>
            <a:ext cx="10667880" cy="3653280"/>
            <a:chOff x="1471680" y="3354840"/>
            <a:chExt cx="10667880" cy="3653280"/>
          </a:xfrm>
        </p:grpSpPr>
        <p:sp>
          <p:nvSpPr>
            <p:cNvPr id="580" name="Rectangle 3"/>
            <p:cNvSpPr/>
            <p:nvPr/>
          </p:nvSpPr>
          <p:spPr>
            <a:xfrm>
              <a:off x="1492560" y="3354840"/>
              <a:ext cx="69116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atro componentes de qualidade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1" name="Rectangle 5"/>
            <p:cNvSpPr/>
            <p:nvPr/>
          </p:nvSpPr>
          <p:spPr>
            <a:xfrm>
              <a:off x="1538640" y="4652280"/>
              <a:ext cx="8065080" cy="9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mento de mensuração como forma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estabilização de políticas públicas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2" name="Rectangle 6"/>
            <p:cNvSpPr/>
            <p:nvPr/>
          </p:nvSpPr>
          <p:spPr>
            <a:xfrm>
              <a:off x="1514160" y="4020840"/>
              <a:ext cx="106254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co em Qualidade Social na semana pela conciliação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83" name="Rectangle 9"/>
            <p:cNvSpPr/>
            <p:nvPr/>
          </p:nvSpPr>
          <p:spPr>
            <a:xfrm>
              <a:off x="1471680" y="6535440"/>
              <a:ext cx="26060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buSzPct val="159311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31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bliografia</a:t>
              </a:r>
              <a:endParaRPr b="0" lang="en-US" sz="31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84" name="Rectangle 9"/>
          <p:cNvSpPr/>
          <p:nvPr/>
        </p:nvSpPr>
        <p:spPr>
          <a:xfrm>
            <a:off x="1465560" y="5849280"/>
            <a:ext cx="24523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buSzPct val="15931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Conclusão</a:t>
            </a:r>
            <a:endParaRPr b="0" lang="en-US" sz="3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786960" y="3885840"/>
            <a:ext cx="11161800" cy="451476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Gill Sans"/>
              </a:rPr>
              <a:t>I. </a:t>
            </a:r>
            <a:r>
              <a:rPr b="1" lang="pt-BR" sz="3600" spc="-1" strike="noStrike">
                <a:solidFill>
                  <a:srgbClr val="000000"/>
                </a:solidFill>
                <a:latin typeface="Gill Sans"/>
                <a:ea typeface="Times New Roman"/>
              </a:rPr>
              <a:t>–</a:t>
            </a:r>
            <a:r>
              <a:rPr b="1" lang="pt-BR" sz="3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Gill Sans"/>
                <a:ea typeface="Times New Roman"/>
              </a:rPr>
              <a:t>Técnic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Gill Sans"/>
                <a:ea typeface="Times New Roman"/>
              </a:rPr>
              <a:t>II. – Ambient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Gill Sans"/>
                <a:ea typeface="Times New Roman"/>
              </a:rPr>
              <a:t>III. – Soci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Gill Sans"/>
                <a:ea typeface="Times New Roman"/>
              </a:rPr>
              <a:t>IV. – Ética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1"/>
          <p:cNvSpPr/>
          <p:nvPr/>
        </p:nvSpPr>
        <p:spPr>
          <a:xfrm>
            <a:off x="181800" y="1448640"/>
            <a:ext cx="8744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Quatro componentes de qualidad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Line 2"/>
          <p:cNvSpPr/>
          <p:nvPr/>
        </p:nvSpPr>
        <p:spPr>
          <a:xfrm flipV="1">
            <a:off x="0" y="2057400"/>
            <a:ext cx="9855360" cy="7632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66720" y="3134880"/>
            <a:ext cx="11017440" cy="49165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just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ssuposto de qu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mos capazes de provocar qualquer emoção em outra pessoa – contágio emocion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á como melhorar o atendimento ao jurisdicionado por meio de atenção mútua, sentimento positivo compartilhado e apropriada comunicação não verbal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Rectangle 1"/>
          <p:cNvSpPr/>
          <p:nvPr/>
        </p:nvSpPr>
        <p:spPr>
          <a:xfrm>
            <a:off x="261720" y="1448640"/>
            <a:ext cx="628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Foco em qualidade soci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Line 2"/>
          <p:cNvSpPr/>
          <p:nvPr/>
        </p:nvSpPr>
        <p:spPr>
          <a:xfrm flipV="1">
            <a:off x="-720" y="2087640"/>
            <a:ext cx="7340760" cy="4608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634680" y="3124080"/>
            <a:ext cx="11017080" cy="784872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1155600" indent="0" algn="just">
              <a:spcBef>
                <a:spcPts val="21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comendação de se aplicarem formulários de satisfação de usuários com foco em qualidade social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Gill Sans"/>
              </a:rPr>
              <a:t>Como foi atendido pelos servidores do Poder Judiciário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Gill Sans"/>
              </a:rPr>
              <a:t>O(a) Sr(a.) acredita que o conciliador foi atencioso e educado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just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Gill Sans"/>
              </a:rPr>
              <a:t>O(a) Sr(a.) acredita que o conciliador foi imparcial na sua atuação?”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155600" indent="0" algn="ctr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182880" y="1448640"/>
            <a:ext cx="7424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Instrumentos de mensuraçã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Line 2"/>
          <p:cNvSpPr/>
          <p:nvPr/>
        </p:nvSpPr>
        <p:spPr>
          <a:xfrm flipV="1">
            <a:off x="-720" y="2087640"/>
            <a:ext cx="7340760" cy="4608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406440" y="1676520"/>
          <a:ext cx="12039480" cy="6951600"/>
        </p:xfrm>
        <a:graphic>
          <a:graphicData uri="http://schemas.openxmlformats.org/drawingml/2006/table">
            <a:tbl>
              <a:tblPr/>
              <a:tblGrid>
                <a:gridCol w="2687760"/>
                <a:gridCol w="9351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MENSÕ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ESCR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ponibilidade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rau de facilidade com que o usuário pode entrar em contato com o servido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este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ntidão com que o servidor responde à solicitação do usuário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ontualidade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tensão com que o serviço é realizado dentro do prazo pré-fix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otal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tensão com que o serviço é realizado na sua integralidade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rdial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tensão com que o servidor do apoio utiliza comportamentos e modos profissionais enquanto trabalha com o usuá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nfiabilida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bilidade para desempenhar os serviços de forma adequada e precisa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spectos tangíve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parência das instalações físicas, contatos, equipamentos, aparência pessoal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atisfação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tensão da satisfação englobando as dimensões da qualidade: disponibilidade, presteza, pontualidade, totalidade, cordialidade, confiabilidade e aspectos tangíveis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3606480" y="1066680"/>
            <a:ext cx="5737320" cy="12160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 fontScale="89000"/>
          </a:bodyPr>
          <a:p>
            <a:pPr marL="10281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Formulário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0281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MPC-CNJ 2009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10281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102816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TextBox 5"/>
          <p:cNvSpPr/>
          <p:nvPr/>
        </p:nvSpPr>
        <p:spPr>
          <a:xfrm>
            <a:off x="635040" y="4010040"/>
            <a:ext cx="1188720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</a:rPr>
              <a:t>Tempo de duração da conciliaçã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"/>
              </a:rPr>
              <a:t>Ótimo – bom – regular – ruim – péssim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</a:rPr>
              <a:t>Cordialidade, atenção e educação do conciliad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"/>
              </a:rPr>
              <a:t>Ótimo – bom – regular – ruim – péssim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</a:rPr>
              <a:t>Como foi o atendimento no poder judiciári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"/>
              </a:rPr>
              <a:t>Ótimo – bom – regular – ruim – péssim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Gill Sans"/>
              </a:rPr>
              <a:t>Como avalia o resultado obtid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Gill Sans"/>
              </a:rPr>
              <a:t>Ótimo – bom – regular – ruim - péssim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4245480" y="8210520"/>
            <a:ext cx="45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55600" indent="-11556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m escala Liker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"/>
          <p:cNvSpPr/>
          <p:nvPr/>
        </p:nvSpPr>
        <p:spPr>
          <a:xfrm>
            <a:off x="239040" y="1301040"/>
            <a:ext cx="2876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Futura"/>
                <a:ea typeface="Futura"/>
              </a:rPr>
              <a:t>Bibliografi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9" name="Line 2"/>
          <p:cNvSpPr/>
          <p:nvPr/>
        </p:nvSpPr>
        <p:spPr>
          <a:xfrm flipV="1">
            <a:off x="0" y="2026800"/>
            <a:ext cx="9223200" cy="4680"/>
          </a:xfrm>
          <a:prstGeom prst="line">
            <a:avLst/>
          </a:prstGeom>
          <a:ln w="255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169920" y="3526200"/>
            <a:ext cx="1232064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buSzPct val="15931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Qualidade em processos autocompositivos in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zevedo,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dré Gomma (org.). 2009. Manual de Mediação Judici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Brasília/DF: Ministério da Justiça e Programa das Nações Unida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a o Desenvolvimento – PNUD)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TextBox 5"/>
          <p:cNvSpPr/>
          <p:nvPr/>
        </p:nvSpPr>
        <p:spPr>
          <a:xfrm>
            <a:off x="8026560" y="869796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Gill Sans"/>
              </a:rPr>
              <a:t>Créditos: Juiz André Gomma de Azeved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0:23Z</dcterms:created>
  <dc:creator/>
  <dc:description/>
  <cp:keywords/>
  <dc:language>en-US</dc:language>
  <cp:lastModifiedBy>Andre Gomma de Azevedo</cp:lastModifiedBy>
  <dcterms:modified xsi:type="dcterms:W3CDTF">2009-11-12T18:55:57Z</dcterms:modified>
  <cp:revision>58</cp:revision>
  <dc:subject/>
  <dc:title>Slide 1</dc:title>
</cp:coreProperties>
</file>